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9B11-B0CC-4FC5-8CB5-CF1C7985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20A-5B73-4305-815E-670B27F6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E1D36-2BDE-471D-826B-E4211A5E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34EE0-8306-40DF-B9E3-99E84163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428BF-85AD-4B84-A652-4981EA2E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74CEA-9B5F-499E-9F55-C486A8BA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51220-A4F4-4388-956C-4E6ABB30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87072-5539-49F9-A364-D66997B9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C1E5D-F35B-429D-9F96-471581BF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C00CB-629C-4B42-8AAB-3D516097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708FD-811B-4DCD-829D-A1B370C9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ECF52-D791-4ACC-9C69-D4BFA528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477-0587-4425-ACA8-27210867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A68A1-52D2-4CFC-8D8A-9E8E8A7C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D1FDA-D5CD-47D8-99C2-313A45F0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CC7DE-8162-431F-818C-F7068EDA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857CA-A548-48DC-9BC0-D0616F34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E2603-6DFE-412A-9873-CF15E0B6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5EF93-F18F-4C35-9B30-5DBB7F15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E7098-310A-42C4-B779-1A588AD6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5CAF8-9F10-42FE-BD1C-02780511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F1BA2-5533-43A1-9139-6CA58A28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FEDA2-2A5A-4FB6-8321-4BE9CBFE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E57A-EA04-4BC9-9483-FC0FE193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C952A-3AC3-498E-A554-BD0DED71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EA538-3B93-4CB8-B039-84FA69DA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6D6F9-BF88-442D-B266-FD4D81A0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B565C-B688-4E14-B264-B7DF61D4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8B448-388E-4DE2-A1D3-DEC423E4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73145-C440-4EF2-9364-AD672FE7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5EC01-B721-45F4-AA7B-94097154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EBC51-F83A-4E68-BE8F-1586F0E7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E699C-B575-436F-8675-5C8FD1A9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F6CEE-FB58-4DDE-ADBF-F92E2753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14E1-631E-49ED-96EE-B2439846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ABC3E-8B6C-4A0F-B1B2-9572ECC8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12E9E-A6FE-4768-8262-A932F2FF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89AD9-4D16-4498-84DF-ABD9F746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70B22-C784-48E9-B64A-AFD20CDC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85785-61C4-44FA-806B-5FC3EC31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ACF71-4362-4415-8DC0-3C6EB85D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41C16-603F-487E-9515-213EF644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44A76-39E0-4A56-861D-4E5F719F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812E8-381C-4B27-8D69-97834D39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989B2-3630-4221-9181-662923ED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C9A8-614F-4760-A478-9EF2B5A7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C4132-EBE2-4E6E-8582-16372BBB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AB7C4-9056-4D70-8B69-4E6C65A9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8FA63-1280-443F-AADF-172F400F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03F64-CCD2-49BE-BBA7-9D9737B2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C4244-C1B1-43FD-9D84-212E60DC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49F586-D850-48D3-81BC-55119CBE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75228B-2068-4308-B7AE-37270A9B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9D154B-B54C-47AB-8141-365869FA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2EFEF1-E27D-4E5C-820B-C15843A7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0CEBEF-9F31-4135-8B66-96EBE862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C512-F054-4181-A040-605E2891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50973C-15E6-456C-AEDF-202A9988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685351-D54A-4FF0-9286-CE2C09EE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91A639-BA2E-44B8-B12E-0A20854C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B0C668-5BAB-40D4-B15D-AEEEEA4D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423010-F028-44B3-A66E-27CEE214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00AB6A-FA0D-42A2-97B0-3F6CAD38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441D24-F219-4A70-A21E-346E7712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4E90-B4B5-45AF-BCD8-56AF133E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7BC8-AAA3-4E44-BCAC-E634E228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8C85-CB0F-4838-A9EE-70FEAB40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ADE6-4D00-40BF-A92D-F677529B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F6E4-F5E9-4BE6-9282-3CBC03E5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552F-4CF5-425C-A940-EB1AA058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A281-52DC-485C-A156-9AF06E4B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35D7-B9E9-487E-9D91-69F0615E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6A8B-AEC4-474F-96A6-74292599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E97D-0492-4AA4-A7B2-B6437C7D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42421-F874-4FDD-9811-3B762978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9DECB-E291-4950-B3F4-40B6392E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57D39-120A-4400-AEAC-7BF06CF6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D879B-0754-4BDD-8182-B208A5A5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8BBCE-1246-463D-AC91-3E2E5FF0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6BA-55A4-47D4-AB3F-2D3AA73A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AA114-E6A5-44E3-97B1-E3EFDD60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08454-80D1-4491-9C0C-8BBAF8DD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E22BC-7618-48A1-8EE0-A5A340A5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BA6D7-5F42-46D0-8C45-764B1CDE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E1453-CA08-45BE-B4FC-53F004A9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C3817-8EE2-49BC-AC66-53A1186F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D81B7-7A66-44BB-891E-AC516C84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BC920-7E4B-42D4-82EE-FE7C94C1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5AF0E-AC62-415D-A629-7D8E3E7C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EFD1F-2754-47BF-92A1-E830A493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FFA-425D-426E-A065-0F408BBB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29344-E88D-4956-81D1-0FDBFE16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1B843-136E-4AE7-8705-EF207BFF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F0316-65FA-43A0-B3A8-95C31FF4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368A6-202C-4552-8B5F-BDBCCDE0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22F73-F7F7-42BD-97A2-A2D9EE0B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322DC-A392-4274-8374-0DF23A41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05F50-15EE-41E3-AAAB-0C8C5507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D1F5F-356A-4507-8523-318A8D6C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34278-92C2-47D5-B86A-50C5AFFC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BEAA1-AE38-4810-B80A-5B1A70EE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CF91-A2BA-4704-85A7-C58F3717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BE338-71A8-43B9-A77F-E8D3E16A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0F3A9-71AC-4D58-B599-93B8404E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5E4E6-266F-4A50-8B94-10275C7F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08F3D-D8D2-4C6D-988E-2B52DDA3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FFD49-85A8-44DF-B5BE-E72A52BF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09D3D-34A5-4BC0-8D57-2D3ACE1A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0EB9F-4DA5-4BE0-95E6-FCAC62F0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D72D1-62BF-4B50-8EDD-A9705050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7D4CF-31B3-430F-8D98-957B7AB1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4CA66-1E42-41A5-9214-706FE8F0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41F0-4605-4120-85B4-383BCD18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DAFAE-7623-4F62-86BD-21E88B2E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D0C3CE-13DB-41E4-88E3-E3E9B7F7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8B7F34-9E92-45B8-B94C-90DD95BE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89EADA-A487-49F5-923C-F0407D5B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A779E1-56FA-4E0F-8D65-7E49BA52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4F95E8-41FC-4ED7-9FD9-4F53A56F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671C48-A00F-484B-A8EA-681765B2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904C35-13D1-4D25-9C54-003C136A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4DE5D3-5845-470B-B124-698444B6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6001DC-0A66-498D-9CAC-25F82CA6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C51-32E2-4A83-A6A6-06675101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095202-4DC6-4CB4-9BE3-7A873534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1FA04F-A89C-42BE-8C87-C35CCAEA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058EEC-CC26-4440-8DB4-60919586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894B5-3CE5-4AEE-B3CF-2C38C8BC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A80EC-BE21-4B40-9BDD-2A606166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E2E82-5417-4643-A40A-B6988D38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76E51-3337-4A13-8678-658122D3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38DAE-6F60-4C82-B1A6-1C40524F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D91D7-D603-4C1F-81B4-645B8F8A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A5E88-0A47-4374-8546-A1BA9E51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274-3AE9-40B8-BEF7-8F4A932E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6E191-083D-4593-8040-B2963D03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57251-C054-4415-B833-6A85E6E5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AB3B7-3D1F-466A-8282-8FF53956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A5CCD-D414-4218-A613-E21E68BF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B034C-D5F2-41C3-BC68-E2019511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056618-12F0-4F31-9A94-3052A122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87A3BA-20DD-4094-8831-EC12A418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D31AA3-FA6D-49EE-BDDD-4377706B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00DA97-1259-498E-9D95-D644BDD9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ECD3DA-E159-40E4-8F4D-CD83AB77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938-8B4C-4B6B-9960-B4392158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32609C-CE15-4049-8B5E-480B6B4A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49237A-36D1-437E-8ECC-C99A3852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1337FA-F25F-4B52-999B-81327569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3B4CFF-07F5-478E-9A08-94FBA4FC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07583D-163D-4D12-A25B-41DAFC09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E61ECC-6CB8-475B-AEA5-9CB21F13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C71807-3C38-4E0E-BD0D-66E2C078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1129D-F90F-4A58-9192-84C8C819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428BB-4675-4A38-927D-E7D8E295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C0AFA-A037-43B9-88E7-129E8BE4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CCEA-74A7-48EC-977D-20210E0A9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9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56DC-DA46-41AF-AA88-8AF7D3930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5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5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9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0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5E0D-6376-4C60-A1D2-1DBCA4208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2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63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6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3A52-4FE7-4FAB-A086-DF8BCB508B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71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2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2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3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1403-A3A0-431B-B228-DF0B169D19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B253-6842-429D-BCC8-AE4904B0D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EA9E-8D72-48A2-A39C-7866EB381B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7C52-B9C1-4AE6-BBE6-6C27680A1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8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3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28E4-C5CF-4923-A388-1925EC652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8218-7A18-4AB3-B37A-3763C321BC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299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5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5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6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5D7E-4D15-4057-ADE5-4C5CD9F88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2EF1-82BF-451F-9094-344CDD89A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5AE1-6555-4057-A2F1-20236A9A83B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yborlink.com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47560" y="2596680"/>
            <a:ext cx="6095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culture </a:t>
            </a: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of 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another 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untry. </a:t>
            </a:r>
            <a:br>
              <a:rPr sz="4400"/>
            </a:b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.cyborlink.com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eriod 4 – Spring 2012</a:t>
            </a: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80" name="Picture 8" descr="MP900407492[1]"/>
          <p:cNvPicPr/>
          <p:nvPr/>
        </p:nvPicPr>
        <p:blipFill>
          <a:blip r:embed="rId2"/>
          <a:stretch/>
        </p:blipFill>
        <p:spPr>
          <a:xfrm>
            <a:off x="0" y="0"/>
            <a:ext cx="1849320" cy="182880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9" descr="MP900443776[1]"/>
          <p:cNvPicPr/>
          <p:nvPr/>
        </p:nvPicPr>
        <p:blipFill>
          <a:blip r:embed="rId3"/>
          <a:stretch/>
        </p:blipFill>
        <p:spPr>
          <a:xfrm>
            <a:off x="2743200" y="0"/>
            <a:ext cx="3048120" cy="20289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0" descr="MP900444574[1]"/>
          <p:cNvPicPr/>
          <p:nvPr/>
        </p:nvPicPr>
        <p:blipFill>
          <a:blip r:embed="rId4"/>
          <a:stretch/>
        </p:blipFill>
        <p:spPr>
          <a:xfrm>
            <a:off x="7326360" y="4273560"/>
            <a:ext cx="1817640" cy="258444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1" descr="MP900443648[1]"/>
          <p:cNvPicPr/>
          <p:nvPr/>
        </p:nvPicPr>
        <p:blipFill>
          <a:blip r:embed="rId5"/>
          <a:stretch/>
        </p:blipFill>
        <p:spPr>
          <a:xfrm>
            <a:off x="6553080" y="1440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12" descr="MP900444244[1]"/>
          <p:cNvPicPr/>
          <p:nvPr/>
        </p:nvPicPr>
        <p:blipFill>
          <a:blip r:embed="rId6"/>
          <a:stretch/>
        </p:blipFill>
        <p:spPr>
          <a:xfrm>
            <a:off x="0" y="4273560"/>
            <a:ext cx="1981080" cy="2584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Taiwan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ervative dress for men is changing rapidly to more open style, due largely in part to the young staff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king is inappropriate in an situat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know touch anyone’s head particularly the head of someone's child are head in very high regard in Taiwa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ders make the decis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y gifts given could not be open in your pres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ify tone and volume so as not to appear loud.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1" name="Picture 4" descr="MC900336450[1]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1679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768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3" dur="768" fill="hold"/>
                                        <p:tgtEl>
                                          <p:spTgt spid="8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5" dur="768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7" dur="768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7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sta Ric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’t put your feet up on any furniture expect items designed for that purpo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dgeting with your hands or feet is considered distracting and impol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North American gestures will be understood in Costa 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fts frequently exchanged all kinds of special occas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business cards, proposals, and other material printed in both English and Spanis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're invited to dinner to a home bring, flowers, chocolate, scotch, or wine. Do not bring calla lilies; they’re associated with funerals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4" name="Picture 4" descr="MC900444624[1]"/>
          <p:cNvPicPr/>
          <p:nvPr/>
        </p:nvPicPr>
        <p:blipFill>
          <a:blip r:embed="rId1"/>
          <a:stretch/>
        </p:blipFill>
        <p:spPr>
          <a:xfrm>
            <a:off x="7494480" y="0"/>
            <a:ext cx="164952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4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7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0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3" dur="500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6" dur="500"/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9" dur="500"/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gentin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eara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ye contact is importan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at on the shoulder = friendship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ver your mouth when you are cough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ting on the streets is ru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nder beef and red wine= national symbo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guest should always wait for host to sit down before they 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someone host a par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7" name="Picture 4" descr="MC900444602[1]"/>
          <p:cNvPicPr/>
          <p:nvPr/>
        </p:nvPicPr>
        <p:blipFill>
          <a:blip r:embed="rId1"/>
          <a:stretch/>
        </p:blipFill>
        <p:spPr>
          <a:xfrm>
            <a:off x="6610320" y="0"/>
            <a:ext cx="253368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7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Italy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acks are generally not warn by either sex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dress in quiet expensive eleg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accessories such as shoes and leather goods will make good impression with the Itali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is money” is not a common phrase in Ita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expect quick decisions or actions to take place, as the Italians bureaucracy and legal systems are show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exchange business cards at social events.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0" name="Picture 4" descr="MP900432996[1]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1930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animClr clrSpc="rgb">
                                      <p:cBhvr>
                                        <p:cTn id="1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1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enezuela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1680" y="2057040"/>
            <a:ext cx="854064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peara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shion is very important to Venezuelan wom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nezuelans often touch each others arm or jacket during convers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ture while seated is import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en dining wait until everyone is served before to e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 indicate you have finished eating place your  utensils parallel and diagonally across your pl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like lunch, dinner is for socializing not for business.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3" name="Picture 4" descr="MP900442775[1]"/>
          <p:cNvPicPr/>
          <p:nvPr/>
        </p:nvPicPr>
        <p:blipFill>
          <a:blip r:embed="rId1"/>
          <a:stretch/>
        </p:blipFill>
        <p:spPr>
          <a:xfrm>
            <a:off x="6883560" y="0"/>
            <a:ext cx="226044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indefinite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ng Ko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 is a lucky color in Hong Ko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te is meaning dea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you have a business meeting by wearing a red tie it impresses the ho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uest of honor make the first toast you shouldn’t rub your chopsticks together because you basically saying that there food is not too g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blow your nose at the dinner table or in publ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6" name="Picture 4" descr="MP900177113[1]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1952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89" dur="20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dia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n must wear suit and tie for 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men must wear dresses or pant sui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ort can be worn only if man are work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man must keep their upper arms inches, beau and legs covered at all ti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st not hit their head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d is considered the seat of the sou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istling is impoli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ver point at a perso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9" name="Picture 4" descr="MP900179395[1]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2301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1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nam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namian business men in higher position wear su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should wear a dress or shirt and blo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shouldn’t be wearing any revealing clot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namian women are taking more and more managerial job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ign business women should always include spouses in invit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fts are not normally exchanged when entertaining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2" name="Picture 4" descr="MP900444415[1]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893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0000"/>
                </a:solidFill>
                <a:latin typeface="Arial"/>
              </a:rPr>
              <a:t>Russia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676160" y="243828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irts should be worn rather than pa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considered rude to stand with your hand in your pock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men should always cover their heads when entering any Russian orthodox churc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shaking hands with someone you must take off you gloves or its considered ru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s considered impolite to show the soles of your sho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cceptable to be 15 to 30 minutes lat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5" name="Picture 4" descr="MP900443820[1]"/>
          <p:cNvPicPr/>
          <p:nvPr/>
        </p:nvPicPr>
        <p:blipFill>
          <a:blip r:embed="rId1"/>
          <a:stretch/>
        </p:blipFill>
        <p:spPr>
          <a:xfrm>
            <a:off x="7516800" y="304920"/>
            <a:ext cx="162720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8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8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il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 should rise and shake women's hand when entries room but if female seated she does not need to ri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raise your right fist to head level is a sign of a communi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a meal keep our hands above the table at all ti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te whine is a National Treas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nctuality in business, meeting start and a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down is master hote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8" name="Picture 4" descr="MP900443307[1]"/>
          <p:cNvPicPr/>
          <p:nvPr/>
        </p:nvPicPr>
        <p:blipFill>
          <a:blip r:embed="rId1"/>
          <a:stretch/>
        </p:blipFill>
        <p:spPr>
          <a:xfrm>
            <a:off x="7770960" y="0"/>
            <a:ext cx="137304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4:08:48Z</dcterms:created>
  <dc:creator>Malden Public Schools</dc:creator>
  <dc:description/>
  <dc:language>en-US</dc:language>
  <cp:lastModifiedBy>mpstech</cp:lastModifiedBy>
  <dcterms:modified xsi:type="dcterms:W3CDTF">2012-03-19T16:09:30Z</dcterms:modified>
  <cp:revision>10</cp:revision>
  <dc:subject/>
  <dc:title>The culture of another country.</dc:title>
</cp:coreProperties>
</file>